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F30-5CB9-41E4-92F3-1F7174B2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366-28D0-4195-BBC1-7C5D5C7E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92E-10D4-4A69-B1FF-5A30EBB9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553-7E23-41BF-87D7-A7BA5D9B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2D1F-D4B9-473A-A1BB-1505028C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9829-9C54-434F-9AED-12058299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B9CB-ED6C-4543-B326-7D7741DA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0793-29AA-4271-B39E-AE0C1B3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A61B-A45C-4D2D-828A-36CCC00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BBBD-B53E-486D-986E-4874121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3533-77AF-4DA6-86A3-0DFC619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5D7-C753-4626-90F2-82FFC80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1253-BB6C-42FA-A421-D4797DD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5A6A-E043-495B-B794-3A996D5C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25E3-F97C-44E5-B743-132FCA99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3AEA-31CC-4F3F-A4CE-1A98A179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E8C2-6226-4C21-BDAC-5B624110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9463-76AD-4B93-8BC4-AAA68919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DF1-2B6D-442A-B235-DAA94539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9EE-D33E-4951-BA27-0CE784A7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84F-636E-45B1-A702-4EC01BF9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B84-3DB1-4230-871B-642AFB66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BD2-5022-42D5-A7BF-33D0E9D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2CD-89BC-4AC8-A428-EB48984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8FA-8248-4A71-9516-38CEBD6E168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AEEA-5D9F-4352-B1C0-1058079C53F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pter 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mmar Concep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ge 68-69 Gramm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ingular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ns one of a noun and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plural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ns more than one of a nou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When a noun ends in the consonant sound (p, k,t) the plural ending is pronounced (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s: Coats, soc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68-69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When a noun ends in the consonant sounds (b,d,g,m,n,r,l,v) or a vowel sound the ending is pronounced (z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: mittens, sweaters, ties, umbrell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68-69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When a noun ends with a “sibilant” the plural ending is pronounced (ez) which forms another syllable at the end of the nou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s: glasses, watch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 68-69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ule:  Some nouns have irregular plural form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amples: a man- m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woman- wom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child- childr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person- peop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tooth- tee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mouse- mi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7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Rule:  Adjectives and colors come before the noun they describe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13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Example:  This is a </a:t>
            </a:r>
            <a:r>
              <a:rPr b="0" i="1" lang="en-US" sz="5400" spc="-1" strike="noStrike">
                <a:solidFill>
                  <a:srgbClr val="ffffcc"/>
                </a:solidFill>
                <a:latin typeface="Arial"/>
              </a:rPr>
              <a:t>purple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jacket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 7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A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pai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set of two.  A pair is singular and is used with a singular verb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:  Here is a pair of sock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. 7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This/Thes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“demonstratives” that refer to objects close to the speake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s:  This is my shir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se are my pant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le:  That is the only demonstrative that contracts with “to be.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mple: That’s my ha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1:42:24Z</dcterms:created>
  <dc:creator>Nancy Martinez</dc:creator>
  <dc:description/>
  <dc:language>en-US</dc:language>
  <cp:lastModifiedBy>nytizer</cp:lastModifiedBy>
  <dcterms:modified xsi:type="dcterms:W3CDTF">2011-03-16T15:44:02Z</dcterms:modified>
  <cp:revision>8</cp:revision>
  <dc:subject/>
  <dc:title>Chapter 8</dc:title>
</cp:coreProperties>
</file>